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5A6-E717-4193-89A3-BC55E980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C34-7E16-4A12-8E3D-461426CE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D4956-4342-47E2-BC58-9C7C8C89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7216-3C39-42AB-83FC-8F5A446C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2343-5A6D-4111-B553-3CE7C5B3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DBCE1-755D-4743-AC62-3B0D096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3EE7E-81C1-46C9-8337-937C35F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6D528-2B11-42A4-9671-E0A9469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D2AF7-A63A-4AA8-85C5-643DB079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1CAC7-59A4-4447-8B0E-E592F108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FD1D3-384C-4FCE-B126-C285BC22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D6ACF-96D6-4A1F-BD8E-FAE7EF81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52A-C904-423C-A99B-04F8B4F5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48CC5-951A-420F-8FD4-F6B5992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89B09-374C-4DC9-AA33-90CEF2F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D1D4C-A58B-4D5F-B539-44AEC51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76E1B-7ECF-4311-8ECA-58AFAA3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690EE-8F28-4017-93D5-10558C2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720E-0F6E-409B-BE10-234C8F0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6819-C470-4C4E-977E-DF88005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BF73-3348-4551-BBFE-E8783E98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193DC-73FE-49C3-9B55-BE906512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D049-45C3-4475-AB3C-0E3C465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858-E351-4327-A63F-227A9DF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43F26-24C4-4370-9532-94D056D6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5D7B0-8F55-4385-86B8-F7D41D72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8AE2-0A39-4969-B523-371E11E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B3567-38C2-415B-A56F-68F3786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B1F2E-32B5-4051-A2E5-76B0DE2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FAF3A-D5B0-4DC0-B0A8-C4BAC68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2BD89-CA19-4131-B803-2BF085A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474A-12FC-4AD0-8BD4-AC50A0F6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6932D-6034-4FD8-87A1-361553BB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B542-59B3-492A-A080-76B775D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C27D-6FC1-4C93-9014-754C8A9B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DBEA8-925C-4BF5-B196-D07E971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6A354-6819-4F19-A1D4-1523E679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B939-0536-4AE4-BD23-76D986A8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4992E-5159-4C31-83B2-FAEA851F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92D89-530B-42EA-A882-1C138354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701B2-264F-4ECC-A3B3-8032BDE0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D8F08-4535-4E7D-B413-E2AC451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555F8-63E1-47BD-8D4B-4ED11B8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EDC19-1E71-4FF0-BAF9-581CDCE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653EE-08BD-4279-89EF-6B3213D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1204-965E-4B7E-8FDA-38F3A4B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189AD-F630-493B-BE7E-7D73117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FC00B-B3E7-477D-9444-F442983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B14DD-774A-45FB-BE16-9BFD6D9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FD346-3986-4D70-9861-3119FD98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196AE-E872-4FF9-A3B4-BE8E79A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5A04E-724A-423F-B577-A7DE1353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17BC0-F0E8-4D0C-88D7-4EE02FD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AC587-E46E-4E4C-9D9B-9B125153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9FC48-A44D-4007-A534-295A7FF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29434-E73D-44DF-8C81-5A6D400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2963-1E1A-4986-80F9-C99BBF8E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0E8A7-BDFD-43B9-A98E-C235E20A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D2610-8EAD-4411-8CDE-D25D0CF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01712-EFFE-4E5F-B8CF-E084FF9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856BE-89CB-44B7-968A-E516669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7A3CF-4AD6-4A76-8175-A8749E0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439E6-F372-4386-BD6E-DBBCEADC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F4EFF-6DE6-43EC-8A4C-E55533F5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D35D4-C107-433F-AB22-6FE599C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12296-0C02-45D2-80BD-4CEAD10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F5E2A-A0A7-43DE-9672-EC2CF58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5B6-1891-477B-8695-84A643A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326B9-4FDD-49BC-AED6-79CC7C84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5A77A-BB5F-4592-9A17-1530D92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DB125-CEB1-4D1C-88BD-EFF73BE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1B25E-A872-4E61-A6DF-3FC3FA2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6A840-98F5-4917-ACB7-4CBDC78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58C2B-23BE-49B4-A78D-E66CA15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D96A2-E516-4DEB-9D5C-1ABFBEB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35862-376B-429E-BB56-36CF75F2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1D469-D4CA-428A-A3B8-78A5587A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48573-6388-4AEE-8113-3A0A980E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BA4-05CF-40E8-B394-6AD8515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BDFB2-E1B5-475C-8833-CD2CD05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CB0B2-A864-4AC8-B9E1-6A23F013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E6316-6C1D-4BD5-8743-B1E390FE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BD6DA-6571-4F3D-B9F3-24EDA84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82943-15A2-4306-9150-5771A7B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EFD98-9D5F-4D24-A83C-7DE1856D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9E0AE-2983-4694-9969-8804CA5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A1D34-2B42-49BE-AC65-741B52B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1F3B5-E53F-4D68-8024-4BF8C8D0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6B0FF-6D88-4293-B70E-80EB831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8E2-5FFB-4788-B799-B0036C7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6F406-2DB8-458B-81C3-B5D1D76F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3BCEE-5AFA-470A-AF81-A0AD168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F757F-A0C3-4C67-8854-9692B014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82E70-C8D1-424B-944B-21A0E8D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1AE67-B9AF-4938-88F6-B27B009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3A7B0-1531-429D-8D10-798B6B0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B8730-5B27-485F-932D-7B505B5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8D777-18AA-4623-80D1-E2744B8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21A6A-54DD-433D-A523-86EFACC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8E73B-2B88-4B9F-AF17-208800E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5398-383B-4A59-97C9-F26F492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D5DAA-F2E4-449B-9227-4C3777B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08546-6761-4F32-80D1-BC07BB8F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FD0D2-A8DC-4B76-9AA0-3B005ABD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6858E-CD92-42C4-8517-B64B19C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A693B-4D2E-4480-8B68-B07DFC1D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3588F-2536-4B94-BE80-9D60F42A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ADCD4-E8EE-4EB9-BCAC-FC7454A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C83EC-2A65-4743-89E7-17D6D74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207EB-C3A1-40E4-81F7-5B213B7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72905-BF88-4B62-85B2-12208BE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AC9-C822-4D97-B30C-37B3ABCC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BC61-8954-45C2-8E84-2C7DA96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DE276-7BB9-4900-97F7-154C14F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BAD94-DCE2-4D37-B158-BC2E733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972A0-6DE3-45AE-B2E7-65BF4FB8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A7F8B-C2B8-44E8-80F2-C07D4C7D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B0143-E2A9-48E6-8888-5D56895A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1D7F5-DBC2-4F37-A10D-A871A18F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11EDC-0EA6-46B6-8450-AAF4B6A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EF795-A16E-485E-897D-AA7C8C8F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A35BF-BFA9-4E11-BA1B-A8F513F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67516-7112-4886-884D-9274296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C381-332E-42B1-AFBC-DE78B3E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627F0-6C04-4942-BA4C-C68157C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EF3E0-0A35-4986-985C-E89F880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80985-7D23-48B7-A277-79E8216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D1459-DE11-4C17-B65A-1FF1DD0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80E80-2E41-4219-9729-0D2D49F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6B204-A0A7-4362-BF76-0FAE3D49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F2F06-1787-4985-9ABD-EEB6EAF9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AAD3F-D3F0-456A-9F8B-873BAB04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A92A9-611B-45EE-954F-F1ABF902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49F0E-356E-4BE9-B80B-FD00CBE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1FE-00FE-4A7E-9B2B-036DEAEC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AD985-78AF-402D-A032-9701EA50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98540-9BC6-40A7-A5C4-C491FC3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E5010-BCB9-4EB6-995D-F0E3CAC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24DE9-E3BC-4387-8439-34338CC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E2C86-4267-4F49-B1D8-09B6597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C79DC-3725-42A8-9F21-62C0F1B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C80BE-4402-49DD-B5FE-5E69E87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8F4FF-04E4-40D7-9001-8F698897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E2543-E911-4DBE-B090-54656832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537E3-C887-46D3-BD95-40B72A1C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DE7E-27CE-47C1-94BF-AC5C52D1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097FA-0D3B-4D01-A7AC-2293E30D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21302-6F72-4FCE-9659-DEE4F73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68EE6-8DD0-4B51-B60B-E5AD4234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0A657-849B-468F-BD77-9011AB8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0FC05-43CC-4778-940A-434715C5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3BD1A-453A-48E4-B885-431476D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AA837-1A52-4F93-A19E-D6E5D1A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E7535-9719-4F3E-A851-D718AEC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028A3-59F6-4FCC-8EB9-3051CC77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737BF-DFE2-46A7-8B0A-7AF7DEDB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2CD-FD7D-4434-9F45-C85ABCE9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66491-5455-41F6-ABD9-88D2C988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14623-C796-405B-992E-199E441E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20B1E-E391-49FE-8105-7F6D7D4B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C3667-2227-46ED-84AA-15FDC27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CF921-68EC-493A-99D0-256EB33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4EC01-75F0-4F36-B151-9A4DFA9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D4335-00B7-4961-BB72-3109899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E5578A-10D9-4A03-A5C5-5962A3B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B6718-4D6A-47F9-AC99-0FF9049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F07D2-8428-41C6-BA06-80F87E6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AF72-D191-49C3-BE8A-69F88BE6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CBA20-4275-45E4-8365-C3714C0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52667-C7A6-4576-A7C7-F08A2B37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1ABC3-EA6F-4E2E-ABAD-2A93C6F5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AF64-90F3-44A1-9521-5064E4C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2F32-751D-4934-A8B8-5C0C3261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EC05-2B61-4973-9316-B000093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2980-76B7-46F0-B338-310A308D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B7E-55AA-4FBD-A8AE-9064B53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C219-7827-4FBA-97D4-D6578EB7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4563-CA71-492D-95D1-933D0D6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CCC0-CF37-43D4-B3B2-04F23DF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4895-A6BB-47BA-A311-CF98023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2D92-D1DF-4054-9667-56C2BF0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B3D0-0ACE-40AE-B010-1FC148FB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E8D3-0168-4374-80EF-D3AD3DD4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BD90-3A46-4014-89C5-A85C1375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BE5D-3C06-4A28-AF27-2F3B73B8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67C8-865E-4F39-8D50-2CC18D7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E22-27C1-47FC-8FD9-A3DE131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0E4A-C192-4BB7-B021-529C3FF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8689-4E72-40F2-B4D6-57AE736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DD5C-6900-4B89-9764-5826B4E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CF0A-DD2A-4B90-8F10-D65CAC9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3686-92BF-4322-8A8F-2DF8F18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B172-20C3-4B7C-A684-7931861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65F8-43F5-4C25-BAA4-BC575CD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D3FB-AB4E-4DDA-8EC0-75C1433A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72C8-5648-41D8-885A-283D4575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FBDC-CA27-4850-8D58-E0FD928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152-A14E-4181-B38A-D579C211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2964-45E8-4819-ABDF-30C1EF2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98C5-4EDB-4919-90CE-0FBBA8C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5624-DC5E-4D38-A435-D9A6202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4983-49B7-439F-A181-DC18BA1D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2C2D-3DC4-4790-BACF-B0AE2B71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BEBB-C82D-44DE-8DE1-56034B5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4021-D636-41E8-B079-4AE5636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2675-B4CD-4D32-99B9-9B77726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0732-F605-44C9-B6D4-F73016F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3616-72CB-4197-8540-3EEA90A2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3BD-4D09-4605-A9AE-4D72A3B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768A9-748B-4168-A595-6AA6E758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4D4D-7B46-4BD2-8C38-8CCC9746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628C-782A-4ACE-9969-00EBF03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4E7F-8470-4C3A-9F10-FCE1C1C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7B4C-E6C2-4578-B02F-6053A5D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0C7C-D1BE-4CFD-93ED-69D3746E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26F3-FBEC-4E0F-9E86-598C8CA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E6A1-E2D4-4893-8EE3-D747A4D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F0AEB-3B1D-44C1-B7F2-A0DC094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D131-D8C7-47F3-959F-2842BA9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0D9-C0BF-4817-8A06-07B6ACC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8D25-3EDC-4438-89C1-19A2CD40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655B-A005-4A88-938C-64618331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B7AE-13FE-4BBD-8137-9221AF52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2FD0-E8E5-4DEC-9858-D71F3E99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90B2-DED4-41D0-88E1-4BEB021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C82E-E01F-458A-BDE2-478AAAF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E252-2A5A-4567-8830-9C2292F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87FA-11CE-4BE2-8E2C-9FC92C4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38AB1-366E-4ED7-B49C-F42C7DBF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D3E35-14F5-4EBB-97A8-D12DB67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D83-6279-4126-B395-EAB2A90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90648-CE5F-4394-8485-EBA3FF8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C3FA-73DA-404E-8365-485CD3E7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201D-A56A-4BA9-AE8E-A05619E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98F5B-CAF6-488D-89DE-EE1F5350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A334-A6D2-46BF-97D7-AE52A8FC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2475-9F96-44F6-8711-F11EBE92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861F5-C1D7-4F63-9C92-0A3769EB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8A0FC-3FC3-413E-8089-221A01BA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D4DF-CB0A-4161-9DFA-18FDC5B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6540-D13D-4E09-8F42-DCA606E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B04-433D-4460-81B2-BD23186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61AC-F03C-4FF9-B9D9-E99C6EA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8DBA-4177-47FF-A13F-54BC265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56D93-058B-41E6-9C70-E74202C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F6CF7-586C-4723-9CFA-688B221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E3C4-83E8-4866-BC7C-7A95328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271E-ABA2-4898-B571-618F87E3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0C65-A6F0-4127-A29A-75822A0F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22796-37BD-41BE-972D-9EE0B3A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8E2C4-3CDF-4712-95D8-7B51208C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C8EAD-0D14-48FC-956A-4B26207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66E-1FEC-4B42-AD73-005A39C15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953-23E9-479D-A851-944684AA5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1A63-36FC-4A61-821C-A27D4A02E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E9E-F789-4C55-81B4-D10316FE0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175-7B7B-45EC-8F92-80565DC4BA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18B-55AA-4D79-AE75-D0599D869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DCA-C8C6-48DE-9DC7-926AD3DEF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601-0DB6-4BA1-AFC9-C4DEC7C22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507-0632-4438-AEDD-DD7676002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423-CF65-4725-8113-6167FECF7C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352-B1AC-433C-9232-316334B6D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486F-61B6-42B6-B4E2-FDA8CC9F2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ACA-F818-4747-8B71-4032BDC35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96E-61BE-4CF3-9C08-9CAED831E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E612-164F-48D9-80C4-CF95BB977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9D3-DBF9-47B9-852A-76C49D166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6D4-6FB1-48FB-8389-A3C7A7D25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186-4430-4425-9310-87820D79A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4AFA-2312-4BCB-94B9-7D922964D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368-536F-491D-AE6D-395F1FEE9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856-1F87-40D5-8ACE-A1AB21202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7E2-A7DF-47A2-92B1-5621D35B7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E47-6BF7-4891-A0C8-B4005EEC5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299-E843-4DDD-B5ED-097AA4E4B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B1D-A0D7-4FE6-B9F9-899307E6D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A46-B99D-42B4-9F8D-6297700FA3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061-A31E-4981-96CB-B56B4E88F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02B-0A5F-43FB-B971-22580C06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7B0-7700-464B-A043-5091055DA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71AF-4E69-4985-8DCC-AC0EE7A22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CFE-162B-4D45-A7F7-A83E43192B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2A6-6B77-442E-8710-63193B677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C29B-C52B-4C98-9C31-DC64BD0E14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A90-B414-4086-99AE-13FC1532A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E2E6-C045-44D0-BE4C-CC61EF405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5D1A-4209-4C4C-A6FD-D77F524B4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160-6D2E-4121-B966-72741ABD8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6BF-AD2F-4B6C-B731-702454D45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E4A8-C262-42B8-93A2-C8A16CBE00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D5B0-B255-4379-A42B-654685C66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282680" y="3214800"/>
            <a:ext cx="58611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04760" y="1009800"/>
            <a:ext cx="8934480" cy="541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2"/>
          <a:stretch/>
        </p:blipFill>
        <p:spPr>
          <a:xfrm>
            <a:off x="142920" y="6357960"/>
            <a:ext cx="1095480" cy="133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339920" y="2089080"/>
            <a:ext cx="6981840" cy="153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4143240" y="385776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5975280" y="383868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6929280" y="442116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8286840" y="44290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500040" y="5286240"/>
            <a:ext cx="2143080" cy="428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1785960" y="5929200"/>
            <a:ext cx="301680" cy="276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3143160" y="5929200"/>
            <a:ext cx="3016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1" descr=""/>
          <p:cNvPicPr/>
          <p:nvPr/>
        </p:nvPicPr>
        <p:blipFill>
          <a:blip r:embed="rId1"/>
          <a:srcRect l="0" t="44730" r="0" b="0"/>
          <a:stretch/>
        </p:blipFill>
        <p:spPr>
          <a:xfrm>
            <a:off x="123840" y="3814920"/>
            <a:ext cx="8896320" cy="2543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3" descr=""/>
          <p:cNvPicPr/>
          <p:nvPr/>
        </p:nvPicPr>
        <p:blipFill>
          <a:blip r:embed="rId2"/>
          <a:stretch/>
        </p:blipFill>
        <p:spPr>
          <a:xfrm>
            <a:off x="142920" y="1057320"/>
            <a:ext cx="8943840" cy="1942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3"/>
          <a:stretch/>
        </p:blipFill>
        <p:spPr>
          <a:xfrm>
            <a:off x="571680" y="2214720"/>
            <a:ext cx="3357360" cy="428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4"/>
          <a:stretch/>
        </p:blipFill>
        <p:spPr>
          <a:xfrm>
            <a:off x="571680" y="2714760"/>
            <a:ext cx="2500200" cy="276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5"/>
          <a:stretch/>
        </p:blipFill>
        <p:spPr>
          <a:xfrm>
            <a:off x="5286240" y="928800"/>
            <a:ext cx="2786040" cy="276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6"/>
          <a:stretch/>
        </p:blipFill>
        <p:spPr>
          <a:xfrm>
            <a:off x="1400040" y="4222800"/>
            <a:ext cx="6867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1" descr=""/>
          <p:cNvPicPr/>
          <p:nvPr/>
        </p:nvPicPr>
        <p:blipFill>
          <a:blip r:embed="rId1"/>
          <a:stretch/>
        </p:blipFill>
        <p:spPr>
          <a:xfrm>
            <a:off x="433440" y="2523960"/>
            <a:ext cx="8277120" cy="1810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2"/>
          <a:stretch/>
        </p:blipFill>
        <p:spPr>
          <a:xfrm>
            <a:off x="3714840" y="37861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3"/>
          <a:stretch/>
        </p:blipFill>
        <p:spPr>
          <a:xfrm>
            <a:off x="7786800" y="3786120"/>
            <a:ext cx="3016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1:41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